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5E64-8DFE-42B9-9942-2FBAEE81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flickr.com/photos/feuilllu/274659572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lickr.com/photos/feuilllu/274659572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erre Meti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22B-C1C4-4FDB-B027-18DCEF23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759-D359-4C52-8E6C-98ECA1CB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B7F9-D354-447D-A0C7-622FB63FF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EE2-08ED-429A-9B47-2F8E1008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833-D911-444A-8C5D-7C19A851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46C-8AE6-4C6A-B0B5-4D8A8143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F93-429D-477E-BA17-718E0FDF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0E20-671C-4CB4-BD77-F0F5005D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ED25-EDEA-4C20-A81A-320E5697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02DD-1B75-4C50-8DDD-71B74AF0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3AF-511E-4CCE-9156-9029445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027B-3E24-4787-BA52-C590C509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0E27-8012-472D-919B-51147705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lickr.com/photos/feuilllu/274659572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50292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y Media Life Is Like A Batt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45720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49116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Photo by Pierre Metivier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lickr.com/photos/feuilllu/27465957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2:39:24Z</dcterms:created>
  <dc:creator>Your Name Here</dc:creator>
  <dc:description/>
  <dc:language>en-US</dc:language>
  <cp:lastModifiedBy>Your Name Here</cp:lastModifiedBy>
  <dcterms:modified xsi:type="dcterms:W3CDTF">2010-12-07T22:59:19Z</dcterms:modified>
  <cp:revision>2</cp:revision>
  <dc:subject/>
  <dc:title>Slide 1</dc:title>
</cp:coreProperties>
</file>